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K-4 we are NOT starting with learning goals and consolidating questions … however we still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re is not always a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 on what you have done today and discuss how these learning activities might be used to have students demonstrate some of these number sense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uck St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, Extend, Translate, 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ment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this sessions we are going to examine what math students in K-4 CAN do – rather than planning lessons specifically ,mapped to curriculum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video of One Duck Stuck - start at the pause in the reading when beginning to represent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background information regarding lesson goal and thinking on the fly - to change the lesson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very action, there is something motivating it. What might be the GOAL set by the person doing each 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- reiterate importance of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linear sequence - can be recur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copy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what is the same? What is diffe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ay LOOK different but when you examine the “criteria” for the pattern – the differences seems to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dentify the constant and the factor of change – the rules and the graphs are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generalization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is tool and why - helps students understand concept of ‘te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-1 - most appropriate to represent as a simple bar graph - in whole group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4 - more appropriate to begin to create independently as seen in grade 2 student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F4AA-2C13-4092-AF4F-7DEF8A3A2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9B24-251F-4BA0-89D2-C0EA94043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B68D-78E5-4B0D-8F9A-9E58D768A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BCA0-09D2-4DD9-B3D1-2D7A32CE0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928C7-6736-46C5-9441-D71788DA46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EA37-D6D9-4BF4-8881-F6C1BE81D7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CBDC-323D-4CBE-A995-057A0669D1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D9BE-5BA5-4F8F-9201-1F3A5A476F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BEFD-F571-43E9-AB3E-F6E09D2B26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3A8C-E02B-41B9-8C20-4945328B14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335E-C9F7-49B0-9465-919492DE9B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F3F0-0F00-4402-BFC8-5F5E92314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915B-B062-4F08-8267-23E4924941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EF9D-70D3-41A9-9D96-9E9C34EE37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7D1A-C63D-4D1E-8E4F-6FE016B0D8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A848-AFBA-42A9-8D5E-5D5BD9835F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59B3-73DA-460A-86B6-4ABC5C112F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74D6-531C-4365-9B60-31D01F842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E4A2-0D58-4A5A-A796-084B41704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1B1C-FE14-440C-A3B8-72E2CB96C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DDB3-53B1-480E-9C2E-F98EB4CE7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7AAC-7BB5-4AF9-A850-31E7748E1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034F-A451-4077-9738-E16603A6F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E7AA-174D-4E5E-8B10-834527D45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490F-35BC-4037-A80F-AF2E9C4751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2CC7-BA33-4795-9673-30DCB62B35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-68580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F1E6-B226-4B7D-ABFF-BD14D0DB63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48006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8000"/>
                </a:solidFill>
                <a:latin typeface="Arial"/>
              </a:rPr>
              <a:t>Building Learning Goals &amp; Consolidating Ques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800600" y="2514600"/>
            <a:ext cx="43434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Multiple Representations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&amp;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Tahoma"/>
              </a:rPr>
              <a:t>Gener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ing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by which the pattern ch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9B3A-344B-45B6-BBEC-37C19188D2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88" name="Content Placeholder 4"/>
          <p:cNvSpPr/>
          <p:nvPr/>
        </p:nvSpPr>
        <p:spPr>
          <a:xfrm>
            <a:off x="609480" y="3657600"/>
            <a:ext cx="8229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pattern starts at           and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grows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943600" y="3505320"/>
            <a:ext cx="914400" cy="1066680"/>
          </a:xfrm>
          <a:prstGeom prst="rect">
            <a:avLst/>
          </a:pr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4572000" y="4191120"/>
            <a:ext cx="914400" cy="1066680"/>
          </a:xfrm>
          <a:prstGeom prst="rect">
            <a:avLst/>
          </a:pr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Number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ic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22DA-BCA3-4334-9B87-17241F8283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5"/>
          <p:cNvGrpSpPr/>
          <p:nvPr/>
        </p:nvGrpSpPr>
        <p:grpSpPr>
          <a:xfrm>
            <a:off x="5867280" y="3505320"/>
            <a:ext cx="2438640" cy="1066680"/>
            <a:chOff x="5867280" y="3505320"/>
            <a:chExt cx="2438640" cy="1066680"/>
          </a:xfrm>
        </p:grpSpPr>
        <p:sp>
          <p:nvSpPr>
            <p:cNvPr id="196" name="Rectangle 6"/>
            <p:cNvSpPr/>
            <p:nvPr/>
          </p:nvSpPr>
          <p:spPr>
            <a:xfrm>
              <a:off x="586728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739152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Content Placeholder 4"/>
          <p:cNvSpPr/>
          <p:nvPr/>
        </p:nvSpPr>
        <p:spPr>
          <a:xfrm>
            <a:off x="609480" y="3657600"/>
            <a:ext cx="82296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SN Expecta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990720"/>
            <a:ext cx="4343400" cy="5867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/>
          </a:bodyPr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derg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relationships; counting; operational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, using concrete materials, the concept of one-to-one correspondence between number and objects when 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25’s to 200, using number lines and hundreds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and explain, through investigation using concrete materials and drawings, multiplication as the combining of equ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495320" y="990720"/>
            <a:ext cx="4419720" cy="586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 fontScale="98000"/>
          </a:bodyPr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100’s to 1000 from various starting points, and by 25’s to 1000 starting from multiples of 25, using a variety of tool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each term in a growing or shrinking pattern with its term number, and record the patterns in a table of values that shows the term number and the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umber pattern involving addition, subtraction, or multiplication, given a pattern rule expressed 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4ED5-1FB6-408F-8453-E86E5F253B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 pattern additions to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04" name="Content Placeholder 4" descr="Screen shot 2011-08-10 at 12.18.56 PM.png"/>
          <p:cNvPicPr/>
          <p:nvPr/>
        </p:nvPicPr>
        <p:blipFill>
          <a:blip r:embed="rId1"/>
          <a:srcRect l="18346" t="0" r="18346" b="0"/>
          <a:stretch/>
        </p:blipFill>
        <p:spPr>
          <a:xfrm>
            <a:off x="1523880" y="137160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442-43B4-4B77-B48F-A6F0EDE0C7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1905120" y="2133720"/>
            <a:ext cx="5486400" cy="2974320"/>
            <a:chOff x="1905120" y="2133720"/>
            <a:chExt cx="5486400" cy="2974320"/>
          </a:xfrm>
        </p:grpSpPr>
        <p:sp>
          <p:nvSpPr>
            <p:cNvPr id="207" name="TextBox 5"/>
            <p:cNvSpPr/>
            <p:nvPr/>
          </p:nvSpPr>
          <p:spPr>
            <a:xfrm>
              <a:off x="1905120" y="213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eat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5639040" y="21337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10"/>
            <p:cNvGrpSpPr/>
            <p:nvPr/>
          </p:nvGrpSpPr>
          <p:grpSpPr>
            <a:xfrm>
              <a:off x="3581280" y="4496400"/>
              <a:ext cx="1981080" cy="611640"/>
              <a:chOff x="3581280" y="4496400"/>
              <a:chExt cx="1981080" cy="611640"/>
            </a:xfrm>
          </p:grpSpPr>
          <p:sp>
            <p:nvSpPr>
              <p:cNvPr id="210" name="TextBox 7"/>
              <p:cNvSpPr/>
              <p:nvPr/>
            </p:nvSpPr>
            <p:spPr>
              <a:xfrm>
                <a:off x="3581280" y="4648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nnec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" name="Straight Arrow Connector 9"/>
              <p:cNvCxnSpPr/>
              <p:nvPr/>
            </p:nvCxnSpPr>
            <p:spPr>
              <a:xfrm>
                <a:off x="3733200" y="4496400"/>
                <a:ext cx="1600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</p:grpSp>
      </p:grpSp>
      <p:sp>
        <p:nvSpPr>
          <p:cNvPr id="212" name="TextBox 12"/>
          <p:cNvSpPr/>
          <p:nvPr/>
        </p:nvSpPr>
        <p:spPr>
          <a:xfrm>
            <a:off x="7551720" y="2209680"/>
            <a:ext cx="5461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14"/>
          <p:cNvCxnSpPr/>
          <p:nvPr/>
        </p:nvCxnSpPr>
        <p:spPr>
          <a:xfrm flipH="1">
            <a:off x="1142640" y="2438280"/>
            <a:ext cx="21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10516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12193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the importance of building mats, position cards and common language to identify and describ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student work to identify multiplicative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plenary foci (multiplicative thinking, multiple representations and generaliz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49B2-40B6-4E34-A476-5E79FD2A53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goals ensure 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gage students in significant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cus teacher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 what questions to pose to focus student thinking  (“in the pocket questions”, consolidating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9AE1-7C0E-4EFE-8434-E1E1AB6779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Learning Goals &amp; Teacher Move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C5CB-9132-4EC1-BE68-38A0547301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98" name="Title 1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601992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t for childre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snake that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different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915C-971A-4E99-812F-55878EBC22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be 6"/>
          <p:cNvSpPr/>
          <p:nvPr/>
        </p:nvSpPr>
        <p:spPr>
          <a:xfrm>
            <a:off x="7621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be 7"/>
          <p:cNvSpPr/>
          <p:nvPr/>
        </p:nvSpPr>
        <p:spPr>
          <a:xfrm>
            <a:off x="34290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be 8"/>
          <p:cNvSpPr/>
          <p:nvPr/>
        </p:nvSpPr>
        <p:spPr>
          <a:xfrm>
            <a:off x="37339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be 9"/>
          <p:cNvSpPr/>
          <p:nvPr/>
        </p:nvSpPr>
        <p:spPr>
          <a:xfrm>
            <a:off x="4038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ube 10"/>
          <p:cNvSpPr/>
          <p:nvPr/>
        </p:nvSpPr>
        <p:spPr>
          <a:xfrm>
            <a:off x="1752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be 11"/>
          <p:cNvSpPr/>
          <p:nvPr/>
        </p:nvSpPr>
        <p:spPr>
          <a:xfrm>
            <a:off x="20574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281952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853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C25E-772A-40DA-BF77-AAE1EA7B5D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3"/>
          <p:cNvGrpSpPr/>
          <p:nvPr/>
        </p:nvGrpSpPr>
        <p:grpSpPr>
          <a:xfrm>
            <a:off x="1066680" y="1523880"/>
            <a:ext cx="6248520" cy="4047120"/>
            <a:chOff x="1066680" y="1523880"/>
            <a:chExt cx="6248520" cy="4047120"/>
          </a:xfrm>
        </p:grpSpPr>
        <p:grpSp>
          <p:nvGrpSpPr>
            <p:cNvPr id="116" name="Group 28"/>
            <p:cNvGrpSpPr/>
            <p:nvPr/>
          </p:nvGrpSpPr>
          <p:grpSpPr>
            <a:xfrm>
              <a:off x="1066680" y="1523880"/>
              <a:ext cx="1688760" cy="1645200"/>
              <a:chOff x="1066680" y="1523880"/>
              <a:chExt cx="1688760" cy="1645200"/>
            </a:xfrm>
          </p:grpSpPr>
          <p:sp>
            <p:nvSpPr>
              <p:cNvPr id="117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14886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4204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20"/>
              <p:cNvSpPr/>
              <p:nvPr/>
            </p:nvSpPr>
            <p:spPr>
              <a:xfrm>
                <a:off x="157320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24"/>
            <p:cNvGrpSpPr/>
            <p:nvPr/>
          </p:nvGrpSpPr>
          <p:grpSpPr>
            <a:xfrm>
              <a:off x="3346560" y="1523880"/>
              <a:ext cx="1688760" cy="1645200"/>
              <a:chOff x="3346560" y="1523880"/>
              <a:chExt cx="1688760" cy="1645200"/>
            </a:xfrm>
          </p:grpSpPr>
          <p:sp>
            <p:nvSpPr>
              <p:cNvPr id="122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385308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41065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41065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Box 21"/>
              <p:cNvSpPr/>
              <p:nvPr/>
            </p:nvSpPr>
            <p:spPr>
              <a:xfrm>
                <a:off x="393696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3"/>
            <p:cNvGrpSpPr/>
            <p:nvPr/>
          </p:nvGrpSpPr>
          <p:grpSpPr>
            <a:xfrm>
              <a:off x="5542200" y="1523880"/>
              <a:ext cx="1688760" cy="1645200"/>
              <a:chOff x="5542200" y="1523880"/>
              <a:chExt cx="1688760" cy="1645200"/>
            </a:xfrm>
          </p:grpSpPr>
          <p:sp>
            <p:nvSpPr>
              <p:cNvPr id="129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4"/>
              <p:cNvSpPr/>
              <p:nvPr/>
            </p:nvSpPr>
            <p:spPr>
              <a:xfrm>
                <a:off x="61333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5"/>
              <p:cNvSpPr/>
              <p:nvPr/>
            </p:nvSpPr>
            <p:spPr>
              <a:xfrm>
                <a:off x="63864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7"/>
              <p:cNvSpPr/>
              <p:nvPr/>
            </p:nvSpPr>
            <p:spPr>
              <a:xfrm>
                <a:off x="638640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8"/>
              <p:cNvSpPr/>
              <p:nvPr/>
            </p:nvSpPr>
            <p:spPr>
              <a:xfrm>
                <a:off x="6133320" y="19684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9"/>
              <p:cNvSpPr/>
              <p:nvPr/>
            </p:nvSpPr>
            <p:spPr>
              <a:xfrm>
                <a:off x="6386400" y="19684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Box 22"/>
              <p:cNvSpPr/>
              <p:nvPr/>
            </p:nvSpPr>
            <p:spPr>
              <a:xfrm>
                <a:off x="6302520" y="277020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44"/>
            <p:cNvGrpSpPr/>
            <p:nvPr/>
          </p:nvGrpSpPr>
          <p:grpSpPr>
            <a:xfrm>
              <a:off x="1066680" y="3926520"/>
              <a:ext cx="5797800" cy="1644480"/>
              <a:chOff x="1066680" y="3926520"/>
              <a:chExt cx="5797800" cy="1644480"/>
            </a:xfrm>
          </p:grpSpPr>
          <p:sp>
            <p:nvSpPr>
              <p:cNvPr id="138" name="Rectangle 25"/>
              <p:cNvSpPr/>
              <p:nvPr/>
            </p:nvSpPr>
            <p:spPr>
              <a:xfrm>
                <a:off x="106668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26"/>
              <p:cNvSpPr/>
              <p:nvPr/>
            </p:nvSpPr>
            <p:spPr>
              <a:xfrm>
                <a:off x="148860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Box 27"/>
              <p:cNvSpPr/>
              <p:nvPr/>
            </p:nvSpPr>
            <p:spPr>
              <a:xfrm>
                <a:off x="1572840" y="517212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27"/>
              <p:cNvSpPr/>
              <p:nvPr/>
            </p:nvSpPr>
            <p:spPr>
              <a:xfrm>
                <a:off x="3809880" y="5172120"/>
                <a:ext cx="84456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27"/>
              <p:cNvSpPr/>
              <p:nvPr/>
            </p:nvSpPr>
            <p:spPr>
              <a:xfrm>
                <a:off x="6019920" y="5172120"/>
                <a:ext cx="84456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43"/>
            <p:cNvGrpSpPr/>
            <p:nvPr/>
          </p:nvGrpSpPr>
          <p:grpSpPr>
            <a:xfrm>
              <a:off x="3430800" y="3926520"/>
              <a:ext cx="1688760" cy="1156680"/>
              <a:chOff x="3430800" y="3926520"/>
              <a:chExt cx="1688760" cy="1156680"/>
            </a:xfrm>
          </p:grpSpPr>
          <p:sp>
            <p:nvSpPr>
              <p:cNvPr id="144" name="Rectangle 29"/>
              <p:cNvSpPr/>
              <p:nvPr/>
            </p:nvSpPr>
            <p:spPr>
              <a:xfrm>
                <a:off x="343080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30"/>
              <p:cNvSpPr/>
              <p:nvPr/>
            </p:nvSpPr>
            <p:spPr>
              <a:xfrm>
                <a:off x="3852720" y="47275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32"/>
              <p:cNvSpPr/>
              <p:nvPr/>
            </p:nvSpPr>
            <p:spPr>
              <a:xfrm>
                <a:off x="3852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33"/>
              <p:cNvSpPr/>
              <p:nvPr/>
            </p:nvSpPr>
            <p:spPr>
              <a:xfrm>
                <a:off x="3852720" y="43714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34"/>
            <p:cNvSpPr/>
            <p:nvPr/>
          </p:nvSpPr>
          <p:spPr>
            <a:xfrm>
              <a:off x="5626440" y="392652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5"/>
            <p:cNvSpPr/>
            <p:nvPr/>
          </p:nvSpPr>
          <p:spPr>
            <a:xfrm>
              <a:off x="6048720" y="472716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>
              <a:off x="6048720" y="437148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41"/>
            <p:cNvGrpSpPr/>
            <p:nvPr/>
          </p:nvGrpSpPr>
          <p:grpSpPr>
            <a:xfrm>
              <a:off x="6048720" y="4193280"/>
              <a:ext cx="253080" cy="533880"/>
              <a:chOff x="6048720" y="4193280"/>
              <a:chExt cx="253080" cy="533880"/>
            </a:xfrm>
          </p:grpSpPr>
          <p:sp>
            <p:nvSpPr>
              <p:cNvPr id="152" name="Rectangle 37"/>
              <p:cNvSpPr/>
              <p:nvPr/>
            </p:nvSpPr>
            <p:spPr>
              <a:xfrm>
                <a:off x="6048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39"/>
              <p:cNvSpPr/>
              <p:nvPr/>
            </p:nvSpPr>
            <p:spPr>
              <a:xfrm>
                <a:off x="6048720" y="41932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40"/>
            <p:cNvSpPr/>
            <p:nvPr/>
          </p:nvSpPr>
          <p:spPr>
            <a:xfrm>
              <a:off x="6048720" y="401544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44"/>
          <p:cNvSpPr/>
          <p:nvPr/>
        </p:nvSpPr>
        <p:spPr>
          <a:xfrm>
            <a:off x="457200" y="614988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py – extend – represent – cre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1371600" y="5181480"/>
            <a:ext cx="685800" cy="38124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r Turn – Creat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A2E3-95A3-4E49-833B-ADEB2B4649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wo patterns that look different but have the same pattern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pattern rule on a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tent Placeholder 5"/>
          <p:cNvSpPr/>
          <p:nvPr/>
        </p:nvSpPr>
        <p:spPr>
          <a:xfrm>
            <a:off x="304920" y="3733920"/>
            <a:ext cx="4190760" cy="20574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rmAutofit fontScale="87000"/>
          </a:bodyPr>
          <a:p>
            <a:pPr marL="3326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rowing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Content Placeholder 6" descr=""/>
          <p:cNvPicPr/>
          <p:nvPr/>
        </p:nvPicPr>
        <p:blipFill>
          <a:blip r:embed="rId1"/>
          <a:stretch/>
        </p:blipFill>
        <p:spPr>
          <a:xfrm>
            <a:off x="4632480" y="3705120"/>
            <a:ext cx="429876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820B-B366-4A4F-BA3F-AA172944FA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8883-93DE-4814-BF4A-56E05EB836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3049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30481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3049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30481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586728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914400" y="289548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3733920" y="289548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2"/>
          <p:cNvSpPr/>
          <p:nvPr/>
        </p:nvSpPr>
        <p:spPr>
          <a:xfrm>
            <a:off x="914400" y="5562720"/>
            <a:ext cx="990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3733920" y="556272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5"/>
          <p:cNvSpPr/>
          <p:nvPr/>
        </p:nvSpPr>
        <p:spPr>
          <a:xfrm>
            <a:off x="6629400" y="556272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Cards &amp; Building Ma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, how might we represent your patterns graphically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A306-0B32-4FD4-86EF-80669C2BFC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Screen shot 2011-08-08 at 12.56.06 PM.png"/>
          <p:cNvPicPr/>
          <p:nvPr/>
        </p:nvPicPr>
        <p:blipFill>
          <a:blip r:embed="rId1"/>
          <a:stretch/>
        </p:blipFill>
        <p:spPr>
          <a:xfrm>
            <a:off x="1066680" y="1978200"/>
            <a:ext cx="6782040" cy="373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5:35:58Z</dcterms:created>
  <dc:creator>CSC</dc:creator>
  <dc:description/>
  <cp:keywords/>
  <dc:language>en-US</dc:language>
  <cp:lastModifiedBy>Computer Services</cp:lastModifiedBy>
  <dcterms:modified xsi:type="dcterms:W3CDTF">2011-08-19T00:12:18Z</dcterms:modified>
  <cp:revision>53</cp:revision>
  <dc:subject/>
  <dc:title>&lt;Title&gt;</dc:title>
</cp:coreProperties>
</file>